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001760"/>
            <a:ext cx="8178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760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2360" y="129528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7880" y="129528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00176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2360" y="400176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7880" y="400176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872-CDE4-4E61-A042-01DB4C33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4C8-0DCA-4307-8EC3-2417ACDD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6A9-6193-4CC5-9964-947AB0FC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80F-7C0C-43DE-AC53-3CC090BD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B2F-90FA-40DA-8456-01D37C91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0644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D800-A18E-4B5B-A7D7-9BBDE232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7F2-754B-45DD-91AC-CBB08B5F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760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F66-D062-4BBD-820E-D96F5BEE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4001760"/>
            <a:ext cx="8178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016-4441-4F9E-AEA8-9452323F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4001760"/>
            <a:ext cx="8178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76C-2635-47A9-ABF5-FD58E3FE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760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72C-73FB-4AC6-A638-B1F5404C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22360" y="129528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87880" y="129528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400176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22360" y="400176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87880" y="400176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2AD-79F1-4FB5-8F35-7058297C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44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760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001760"/>
            <a:ext cx="8178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11/19/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Columbia Univer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0B65-A27B-4651-871F-01EB7FACCE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75000"/>
              <a:buFont typeface="Webding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ietf.org/rfc/rfc2246.txt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Network Security Architecture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Part 1 Fundamentals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Summer School on Software Security Theory to Practice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133720" y="4095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rl A. Gunt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versity of Pennsylvan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mmer 2004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Internet Layers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hysica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n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twor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nspor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Security at Layer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hysica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cked doo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pread spectr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mpes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n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P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S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twor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rewal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PSec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2760" y="1295280"/>
            <a:ext cx="401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nspor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SL and T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/MI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MLDSIG and WS secur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cess control systems for web pages, databases, and file system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Network Layer Security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4495680"/>
            <a:ext cx="4572000" cy="121932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3276720"/>
            <a:ext cx="4572000" cy="121896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2057400"/>
            <a:ext cx="4572000" cy="121932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325960" y="2324160"/>
            <a:ext cx="11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TT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3912480" y="232416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T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5291280" y="2324160"/>
            <a:ext cx="12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MT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3963240" y="358128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C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542760" y="472428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P/IPSe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057400"/>
            <a:ext cx="0" cy="1219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057400"/>
            <a:ext cx="0" cy="1219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Transport Layer Security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5257800"/>
            <a:ext cx="4572000" cy="121932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4038480"/>
            <a:ext cx="4572000" cy="121932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1600200"/>
            <a:ext cx="4572000" cy="121932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2325960" y="1866960"/>
            <a:ext cx="11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TT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3912480" y="186696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T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866960"/>
            <a:ext cx="12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MT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3963240" y="434340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C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4135680" y="5486400"/>
            <a:ext cx="5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1600200"/>
            <a:ext cx="0" cy="1219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1600200"/>
            <a:ext cx="0" cy="1219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819520"/>
            <a:ext cx="4572000" cy="121896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357720" y="3124080"/>
            <a:ext cx="21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SL or T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Application Layer Security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5257800"/>
            <a:ext cx="7010280" cy="121932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4038480"/>
            <a:ext cx="7010280" cy="121932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1600200"/>
            <a:ext cx="4572000" cy="121932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3433680" y="1963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/MI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5210640" y="191448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GP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6760080" y="19144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5182560" y="434340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C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4135680" y="5562720"/>
            <a:ext cx="5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1600200"/>
            <a:ext cx="0" cy="1219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1600200"/>
            <a:ext cx="0" cy="1219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819520"/>
            <a:ext cx="7010280" cy="121896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4148280" y="3124080"/>
            <a:ext cx="12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MT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6627960" y="3124080"/>
            <a:ext cx="11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TT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661400" y="4368960"/>
            <a:ext cx="102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D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1203840" y="312408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bero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2819520"/>
            <a:ext cx="0" cy="1218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2819520"/>
            <a:ext cx="0" cy="1218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4038480"/>
            <a:ext cx="0" cy="1219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Division of Labor in the Internet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209680"/>
            <a:ext cx="304920" cy="304920"/>
          </a:xfrm>
          <a:prstGeom prst="plus">
            <a:avLst>
              <a:gd name="adj" fmla="val 25000"/>
            </a:avLst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2666880"/>
            <a:ext cx="381240" cy="304920"/>
          </a:xfrm>
          <a:custGeom>
            <a:avLst/>
            <a:gdLst/>
            <a:ahLst/>
            <a:rect l="l" t="t" r="r" b="b"/>
            <a:pathLst>
              <a:path w="880" h="640">
                <a:moveTo>
                  <a:pt x="104" y="200"/>
                </a:moveTo>
                <a:cubicBezTo>
                  <a:pt x="208" y="112"/>
                  <a:pt x="672" y="0"/>
                  <a:pt x="776" y="56"/>
                </a:cubicBezTo>
                <a:cubicBezTo>
                  <a:pt x="880" y="112"/>
                  <a:pt x="832" y="448"/>
                  <a:pt x="728" y="536"/>
                </a:cubicBezTo>
                <a:cubicBezTo>
                  <a:pt x="624" y="624"/>
                  <a:pt x="256" y="640"/>
                  <a:pt x="152" y="584"/>
                </a:cubicBezTo>
                <a:cubicBezTo>
                  <a:pt x="48" y="528"/>
                  <a:pt x="0" y="288"/>
                  <a:pt x="104" y="200"/>
                </a:cubicBezTo>
                <a:close/>
              </a:path>
            </a:pathLst>
          </a:custGeom>
          <a:solidFill>
            <a:srgbClr val="ff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838160" y="4079880"/>
            <a:ext cx="304920" cy="3049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671760" y="1712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st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672480" y="21700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ter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672120" y="26272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2286000"/>
            <a:ext cx="1371600" cy="1231920"/>
          </a:xfrm>
          <a:custGeom>
            <a:avLst/>
            <a:gdLst/>
            <a:ahLst/>
            <a:rect l="l" t="t" r="r" b="b"/>
            <a:pathLst>
              <a:path w="864" h="776">
                <a:moveTo>
                  <a:pt x="312" y="88"/>
                </a:moveTo>
                <a:cubicBezTo>
                  <a:pt x="224" y="176"/>
                  <a:pt x="0" y="512"/>
                  <a:pt x="72" y="616"/>
                </a:cubicBezTo>
                <a:cubicBezTo>
                  <a:pt x="144" y="720"/>
                  <a:pt x="624" y="776"/>
                  <a:pt x="744" y="712"/>
                </a:cubicBezTo>
                <a:cubicBezTo>
                  <a:pt x="864" y="648"/>
                  <a:pt x="816" y="336"/>
                  <a:pt x="792" y="232"/>
                </a:cubicBezTo>
                <a:cubicBezTo>
                  <a:pt x="768" y="128"/>
                  <a:pt x="680" y="112"/>
                  <a:pt x="600" y="88"/>
                </a:cubicBezTo>
                <a:cubicBezTo>
                  <a:pt x="520" y="64"/>
                  <a:pt x="400" y="0"/>
                  <a:pt x="312" y="88"/>
                </a:cubicBezTo>
                <a:close/>
              </a:path>
            </a:pathLst>
          </a:custGeom>
          <a:solidFill>
            <a:srgbClr val="ff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3429000"/>
            <a:ext cx="1371600" cy="1676520"/>
          </a:xfrm>
          <a:custGeom>
            <a:avLst/>
            <a:gdLst/>
            <a:ahLst/>
            <a:rect l="l" t="t" r="r" b="b"/>
            <a:pathLst>
              <a:path w="880" h="640">
                <a:moveTo>
                  <a:pt x="104" y="200"/>
                </a:moveTo>
                <a:cubicBezTo>
                  <a:pt x="208" y="112"/>
                  <a:pt x="672" y="0"/>
                  <a:pt x="776" y="56"/>
                </a:cubicBezTo>
                <a:cubicBezTo>
                  <a:pt x="880" y="112"/>
                  <a:pt x="832" y="448"/>
                  <a:pt x="728" y="536"/>
                </a:cubicBezTo>
                <a:cubicBezTo>
                  <a:pt x="624" y="624"/>
                  <a:pt x="256" y="640"/>
                  <a:pt x="152" y="584"/>
                </a:cubicBezTo>
                <a:cubicBezTo>
                  <a:pt x="48" y="528"/>
                  <a:pt x="0" y="288"/>
                  <a:pt x="104" y="200"/>
                </a:cubicBezTo>
                <a:close/>
              </a:path>
            </a:pathLst>
          </a:custGeom>
          <a:solidFill>
            <a:srgbClr val="ff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2743200"/>
            <a:ext cx="1714320" cy="1612800"/>
          </a:xfrm>
          <a:custGeom>
            <a:avLst/>
            <a:gdLst/>
            <a:ahLst/>
            <a:rect l="l" t="t" r="r" b="b"/>
            <a:pathLst>
              <a:path w="1080" h="1352">
                <a:moveTo>
                  <a:pt x="392" y="168"/>
                </a:moveTo>
                <a:cubicBezTo>
                  <a:pt x="272" y="240"/>
                  <a:pt x="160" y="400"/>
                  <a:pt x="104" y="552"/>
                </a:cubicBezTo>
                <a:cubicBezTo>
                  <a:pt x="48" y="704"/>
                  <a:pt x="0" y="952"/>
                  <a:pt x="56" y="1080"/>
                </a:cubicBezTo>
                <a:cubicBezTo>
                  <a:pt x="112" y="1208"/>
                  <a:pt x="280" y="1352"/>
                  <a:pt x="440" y="1320"/>
                </a:cubicBezTo>
                <a:cubicBezTo>
                  <a:pt x="600" y="1288"/>
                  <a:pt x="952" y="1088"/>
                  <a:pt x="1016" y="888"/>
                </a:cubicBezTo>
                <a:cubicBezTo>
                  <a:pt x="1080" y="688"/>
                  <a:pt x="928" y="240"/>
                  <a:pt x="824" y="120"/>
                </a:cubicBezTo>
                <a:cubicBezTo>
                  <a:pt x="720" y="0"/>
                  <a:pt x="512" y="96"/>
                  <a:pt x="392" y="168"/>
                </a:cubicBezTo>
                <a:close/>
              </a:path>
            </a:pathLst>
          </a:custGeom>
          <a:solidFill>
            <a:srgbClr val="ff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4952880"/>
            <a:ext cx="1752480" cy="1219320"/>
          </a:xfrm>
          <a:custGeom>
            <a:avLst/>
            <a:gdLst/>
            <a:ahLst/>
            <a:rect l="l" t="t" r="r" b="b"/>
            <a:pathLst>
              <a:path w="880" h="640">
                <a:moveTo>
                  <a:pt x="104" y="200"/>
                </a:moveTo>
                <a:cubicBezTo>
                  <a:pt x="208" y="112"/>
                  <a:pt x="672" y="0"/>
                  <a:pt x="776" y="56"/>
                </a:cubicBezTo>
                <a:cubicBezTo>
                  <a:pt x="880" y="112"/>
                  <a:pt x="832" y="448"/>
                  <a:pt x="728" y="536"/>
                </a:cubicBezTo>
                <a:cubicBezTo>
                  <a:pt x="624" y="624"/>
                  <a:pt x="256" y="640"/>
                  <a:pt x="152" y="584"/>
                </a:cubicBezTo>
                <a:cubicBezTo>
                  <a:pt x="48" y="528"/>
                  <a:pt x="0" y="288"/>
                  <a:pt x="104" y="200"/>
                </a:cubicBezTo>
                <a:close/>
              </a:path>
            </a:pathLst>
          </a:custGeom>
          <a:solidFill>
            <a:srgbClr val="ff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4952880"/>
            <a:ext cx="304560" cy="304920"/>
          </a:xfrm>
          <a:prstGeom prst="plus">
            <a:avLst>
              <a:gd name="adj" fmla="val 25000"/>
            </a:avLst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6019920" y="3886200"/>
            <a:ext cx="304560" cy="304920"/>
          </a:xfrm>
          <a:prstGeom prst="plus">
            <a:avLst>
              <a:gd name="adj" fmla="val 25000"/>
            </a:avLst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3276720"/>
            <a:ext cx="304920" cy="304560"/>
          </a:xfrm>
          <a:prstGeom prst="plus">
            <a:avLst>
              <a:gd name="adj" fmla="val 25000"/>
            </a:avLst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187" name=""/>
          <p:cNvCxnSpPr>
            <a:stCxn id="181" idx="0"/>
            <a:endCxn id="186" idx="1"/>
          </p:cNvCxnSpPr>
          <p:nvPr/>
        </p:nvCxnSpPr>
        <p:spPr>
          <a:xfrm flipV="1">
            <a:off x="3571920" y="3428640"/>
            <a:ext cx="467280" cy="14688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88" name=""/>
          <p:cNvCxnSpPr>
            <a:stCxn id="186" idx="3"/>
            <a:endCxn id="180" idx="0"/>
          </p:cNvCxnSpPr>
          <p:nvPr/>
        </p:nvCxnSpPr>
        <p:spPr>
          <a:xfrm flipV="1">
            <a:off x="4343040" y="3263040"/>
            <a:ext cx="343800" cy="16596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89" name=""/>
          <p:cNvCxnSpPr>
            <a:stCxn id="181" idx="1"/>
            <a:endCxn id="184" idx="1"/>
          </p:cNvCxnSpPr>
          <p:nvPr/>
        </p:nvCxnSpPr>
        <p:spPr>
          <a:xfrm>
            <a:off x="3497400" y="4831920"/>
            <a:ext cx="465840" cy="27396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90" name=""/>
          <p:cNvCxnSpPr>
            <a:stCxn id="184" idx="3"/>
            <a:endCxn id="183" idx="0"/>
          </p:cNvCxnSpPr>
          <p:nvPr/>
        </p:nvCxnSpPr>
        <p:spPr>
          <a:xfrm>
            <a:off x="4267080" y="5105160"/>
            <a:ext cx="588240" cy="22932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91" name=""/>
          <p:cNvCxnSpPr>
            <a:stCxn id="183" idx="1"/>
            <a:endCxn id="185" idx="2"/>
          </p:cNvCxnSpPr>
          <p:nvPr/>
        </p:nvCxnSpPr>
        <p:spPr>
          <a:xfrm flipH="1" flipV="1">
            <a:off x="6171840" y="4190760"/>
            <a:ext cx="23040" cy="86904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92" name=""/>
          <p:cNvCxnSpPr>
            <a:stCxn id="185" idx="3"/>
            <a:endCxn id="182" idx="0"/>
          </p:cNvCxnSpPr>
          <p:nvPr/>
        </p:nvCxnSpPr>
        <p:spPr>
          <a:xfrm flipV="1">
            <a:off x="6324120" y="4031640"/>
            <a:ext cx="242280" cy="684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93" name=""/>
          <p:cNvCxnSpPr>
            <a:stCxn id="180" idx="1"/>
            <a:endCxn id="185" idx="0"/>
          </p:cNvCxnSpPr>
          <p:nvPr/>
        </p:nvCxnSpPr>
        <p:spPr>
          <a:xfrm>
            <a:off x="5753160" y="3416040"/>
            <a:ext cx="419760" cy="47052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228600" y="1752480"/>
            <a:ext cx="304920" cy="3049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2590920" y="3124080"/>
            <a:ext cx="304560" cy="3049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1981080"/>
            <a:ext cx="304560" cy="3049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6095880" y="2971800"/>
            <a:ext cx="304920" cy="3049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8077320" y="2590920"/>
            <a:ext cx="304560" cy="3045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8153280" y="4038480"/>
            <a:ext cx="304920" cy="3049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5257800"/>
            <a:ext cx="304560" cy="3049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6172200" y="6095880"/>
            <a:ext cx="304920" cy="3049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6172200"/>
            <a:ext cx="304920" cy="3049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133720" y="426708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342900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562360" y="2286000"/>
            <a:ext cx="7596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866920" y="31240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3200400"/>
            <a:ext cx="30492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848360" y="281952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8000640" y="3962160"/>
            <a:ext cx="15228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324480" y="5410080"/>
            <a:ext cx="152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6095880" y="5943240"/>
            <a:ext cx="15264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724280" y="6019560"/>
            <a:ext cx="15264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8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5053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8195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7086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35053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28195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2514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2514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4800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TCP/IP Protocol Stack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87600" y="19051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7697880" y="19051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2956680" y="1905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5258520" y="1905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55627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5627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55627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55627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Communication Processing Flow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35053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1905120"/>
            <a:ext cx="83808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7086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7086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7086600" y="35053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2514600" y="4876920"/>
            <a:ext cx="9907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2514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4876920"/>
            <a:ext cx="9907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1905120"/>
            <a:ext cx="83844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8153280" y="1905120"/>
            <a:ext cx="83844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1905120"/>
            <a:ext cx="83808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55627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7086600" y="55627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2514600" y="5562720"/>
            <a:ext cx="9907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5562720"/>
            <a:ext cx="9907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4876920"/>
            <a:ext cx="9907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5562720"/>
            <a:ext cx="9907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4876920"/>
            <a:ext cx="9907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5715000" y="5562720"/>
            <a:ext cx="9907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2666880"/>
            <a:ext cx="7670880" cy="4000680"/>
          </a:xfrm>
          <a:custGeom>
            <a:avLst/>
            <a:gdLst/>
            <a:ahLst/>
            <a:rect l="l" t="t" r="r" b="b"/>
            <a:pathLst>
              <a:path w="4832" h="2520">
                <a:moveTo>
                  <a:pt x="656" y="0"/>
                </a:moveTo>
                <a:cubicBezTo>
                  <a:pt x="480" y="60"/>
                  <a:pt x="304" y="120"/>
                  <a:pt x="224" y="480"/>
                </a:cubicBezTo>
                <a:cubicBezTo>
                  <a:pt x="144" y="840"/>
                  <a:pt x="0" y="1880"/>
                  <a:pt x="176" y="2160"/>
                </a:cubicBezTo>
                <a:cubicBezTo>
                  <a:pt x="352" y="2440"/>
                  <a:pt x="1080" y="2328"/>
                  <a:pt x="1280" y="2160"/>
                </a:cubicBezTo>
                <a:cubicBezTo>
                  <a:pt x="1480" y="1992"/>
                  <a:pt x="1272" y="1320"/>
                  <a:pt x="1376" y="1152"/>
                </a:cubicBezTo>
                <a:cubicBezTo>
                  <a:pt x="1480" y="984"/>
                  <a:pt x="1816" y="976"/>
                  <a:pt x="1904" y="1152"/>
                </a:cubicBezTo>
                <a:cubicBezTo>
                  <a:pt x="1992" y="1328"/>
                  <a:pt x="1752" y="2032"/>
                  <a:pt x="1904" y="2208"/>
                </a:cubicBezTo>
                <a:cubicBezTo>
                  <a:pt x="2056" y="2384"/>
                  <a:pt x="2664" y="2384"/>
                  <a:pt x="2816" y="2208"/>
                </a:cubicBezTo>
                <a:cubicBezTo>
                  <a:pt x="2968" y="2032"/>
                  <a:pt x="2720" y="1328"/>
                  <a:pt x="2816" y="1152"/>
                </a:cubicBezTo>
                <a:cubicBezTo>
                  <a:pt x="2912" y="976"/>
                  <a:pt x="3296" y="968"/>
                  <a:pt x="3392" y="1152"/>
                </a:cubicBezTo>
                <a:cubicBezTo>
                  <a:pt x="3488" y="1336"/>
                  <a:pt x="3200" y="2080"/>
                  <a:pt x="3392" y="2256"/>
                </a:cubicBezTo>
                <a:cubicBezTo>
                  <a:pt x="3584" y="2432"/>
                  <a:pt x="4328" y="2520"/>
                  <a:pt x="4544" y="2208"/>
                </a:cubicBezTo>
                <a:cubicBezTo>
                  <a:pt x="4760" y="1896"/>
                  <a:pt x="4640" y="752"/>
                  <a:pt x="4688" y="384"/>
                </a:cubicBezTo>
                <a:cubicBezTo>
                  <a:pt x="4736" y="16"/>
                  <a:pt x="4816" y="64"/>
                  <a:pt x="4832" y="0"/>
                </a:cubicBezTo>
              </a:path>
            </a:pathLst>
          </a:custGeom>
          <a:noFill/>
          <a:ln cap="sq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Typical Patchwork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4876920"/>
            <a:ext cx="19051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3505320"/>
            <a:ext cx="19051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1905120"/>
            <a:ext cx="83808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3505320"/>
            <a:ext cx="19051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4876920"/>
            <a:ext cx="9907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4800600" y="4876920"/>
            <a:ext cx="9907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52280" y="1905120"/>
            <a:ext cx="83844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8153280" y="1905120"/>
            <a:ext cx="83844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905120"/>
            <a:ext cx="83808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55627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7086600" y="5562720"/>
            <a:ext cx="19051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2514600" y="5562720"/>
            <a:ext cx="9907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4800600" y="5562720"/>
            <a:ext cx="9907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4876920"/>
            <a:ext cx="9907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5562720"/>
            <a:ext cx="9907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5715000" y="4876920"/>
            <a:ext cx="9907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5562720"/>
            <a:ext cx="9907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2666880"/>
            <a:ext cx="7670880" cy="4000680"/>
          </a:xfrm>
          <a:custGeom>
            <a:avLst/>
            <a:gdLst/>
            <a:ahLst/>
            <a:rect l="l" t="t" r="r" b="b"/>
            <a:pathLst>
              <a:path w="4832" h="2520">
                <a:moveTo>
                  <a:pt x="656" y="0"/>
                </a:moveTo>
                <a:cubicBezTo>
                  <a:pt x="480" y="60"/>
                  <a:pt x="304" y="120"/>
                  <a:pt x="224" y="480"/>
                </a:cubicBezTo>
                <a:cubicBezTo>
                  <a:pt x="144" y="840"/>
                  <a:pt x="0" y="1880"/>
                  <a:pt x="176" y="2160"/>
                </a:cubicBezTo>
                <a:cubicBezTo>
                  <a:pt x="352" y="2440"/>
                  <a:pt x="1080" y="2328"/>
                  <a:pt x="1280" y="2160"/>
                </a:cubicBezTo>
                <a:cubicBezTo>
                  <a:pt x="1480" y="1992"/>
                  <a:pt x="1272" y="1320"/>
                  <a:pt x="1376" y="1152"/>
                </a:cubicBezTo>
                <a:cubicBezTo>
                  <a:pt x="1480" y="984"/>
                  <a:pt x="1816" y="976"/>
                  <a:pt x="1904" y="1152"/>
                </a:cubicBezTo>
                <a:cubicBezTo>
                  <a:pt x="1992" y="1328"/>
                  <a:pt x="1752" y="2032"/>
                  <a:pt x="1904" y="2208"/>
                </a:cubicBezTo>
                <a:cubicBezTo>
                  <a:pt x="2056" y="2384"/>
                  <a:pt x="2664" y="2384"/>
                  <a:pt x="2816" y="2208"/>
                </a:cubicBezTo>
                <a:cubicBezTo>
                  <a:pt x="2968" y="2032"/>
                  <a:pt x="2720" y="1328"/>
                  <a:pt x="2816" y="1152"/>
                </a:cubicBezTo>
                <a:cubicBezTo>
                  <a:pt x="2912" y="976"/>
                  <a:pt x="3296" y="968"/>
                  <a:pt x="3392" y="1152"/>
                </a:cubicBezTo>
                <a:cubicBezTo>
                  <a:pt x="3488" y="1336"/>
                  <a:pt x="3200" y="2080"/>
                  <a:pt x="3392" y="2256"/>
                </a:cubicBezTo>
                <a:cubicBezTo>
                  <a:pt x="3584" y="2432"/>
                  <a:pt x="4328" y="2520"/>
                  <a:pt x="4544" y="2208"/>
                </a:cubicBezTo>
                <a:cubicBezTo>
                  <a:pt x="4760" y="1896"/>
                  <a:pt x="4640" y="752"/>
                  <a:pt x="4688" y="384"/>
                </a:cubicBezTo>
                <a:cubicBezTo>
                  <a:pt x="4736" y="16"/>
                  <a:pt x="4816" y="64"/>
                  <a:pt x="4832" y="0"/>
                </a:cubicBezTo>
              </a:path>
            </a:pathLst>
          </a:custGeom>
          <a:noFill/>
          <a:ln cap="sq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Physical Layer Protection Issues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de signal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pread spectr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mission securit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dio emissions (Tempest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wer emiss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Public Key Infrastructure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tual authentication of participants in a transaction requires a system of ident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Principal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re identified by public key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se keys can be used for authentication, but only if “spoofing” is prevent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Public Key Infrastructure (PKI) provides a basis for establishing trus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Encapsul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7467480" y="3124080"/>
            <a:ext cx="1524240" cy="60984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154080" y="3125880"/>
            <a:ext cx="1527120" cy="6127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3124080"/>
            <a:ext cx="1527120" cy="6127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3124080"/>
            <a:ext cx="1527120" cy="6127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4724280" y="3124080"/>
            <a:ext cx="2743200" cy="6127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3225960" y="1522800"/>
            <a:ext cx="2401200" cy="459720"/>
          </a:xfrm>
          <a:prstGeom prst="rect">
            <a:avLst/>
          </a:prstGeom>
          <a:noFill/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 Layer Fra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291" name=""/>
          <p:cNvCxnSpPr>
            <a:stCxn id="290" idx="1"/>
            <a:endCxn id="286" idx="0"/>
          </p:cNvCxnSpPr>
          <p:nvPr/>
        </p:nvCxnSpPr>
        <p:spPr>
          <a:xfrm flipV="1" rot="10800000">
            <a:off x="916920" y="1751040"/>
            <a:ext cx="2284920" cy="1360800"/>
          </a:xfrm>
          <a:prstGeom prst="bentConnector2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90" idx="3"/>
            <a:endCxn id="285" idx="0"/>
          </p:cNvCxnSpPr>
          <p:nvPr/>
        </p:nvCxnSpPr>
        <p:spPr>
          <a:xfrm>
            <a:off x="5651280" y="1752120"/>
            <a:ext cx="2578680" cy="1359720"/>
          </a:xfrm>
          <a:prstGeom prst="bentConnector2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3" name=""/>
          <p:cNvSpPr/>
          <p:nvPr/>
        </p:nvSpPr>
        <p:spPr>
          <a:xfrm>
            <a:off x="427680" y="5259240"/>
            <a:ext cx="2035440" cy="825480"/>
          </a:xfrm>
          <a:prstGeom prst="rect">
            <a:avLst/>
          </a:prstGeom>
          <a:noFill/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294" name=""/>
          <p:cNvCxnSpPr>
            <a:stCxn id="293" idx="0"/>
            <a:endCxn id="287" idx="2"/>
          </p:cNvCxnSpPr>
          <p:nvPr/>
        </p:nvCxnSpPr>
        <p:spPr>
          <a:xfrm flipH="1" flipV="1" rot="5400000">
            <a:off x="1199880" y="3994920"/>
            <a:ext cx="1486440" cy="994680"/>
          </a:xfrm>
          <a:prstGeom prst="bentConnector3">
            <a:avLst>
              <a:gd name="adj1" fmla="val 50000"/>
            </a:avLst>
          </a:prstGeom>
          <a:ln cap="sq"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3242520" y="5268960"/>
            <a:ext cx="2155680" cy="825480"/>
          </a:xfrm>
          <a:prstGeom prst="rect">
            <a:avLst/>
          </a:prstGeom>
          <a:noFill/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 Lay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296" name=""/>
          <p:cNvCxnSpPr>
            <a:stCxn id="295" idx="0"/>
            <a:endCxn id="288" idx="2"/>
          </p:cNvCxnSpPr>
          <p:nvPr/>
        </p:nvCxnSpPr>
        <p:spPr>
          <a:xfrm flipV="1" rot="16200000">
            <a:off x="3394440" y="4318200"/>
            <a:ext cx="1496160" cy="357840"/>
          </a:xfrm>
          <a:prstGeom prst="bentConnector3">
            <a:avLst>
              <a:gd name="adj1" fmla="val 49987"/>
            </a:avLst>
          </a:prstGeom>
          <a:ln cap="sq"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6289200" y="5268960"/>
            <a:ext cx="2410200" cy="825480"/>
          </a:xfrm>
          <a:prstGeom prst="rect">
            <a:avLst/>
          </a:prstGeom>
          <a:noFill/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 Lay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yloa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298" name=""/>
          <p:cNvCxnSpPr>
            <a:stCxn id="297" idx="0"/>
            <a:endCxn id="289" idx="2"/>
          </p:cNvCxnSpPr>
          <p:nvPr/>
        </p:nvCxnSpPr>
        <p:spPr>
          <a:xfrm flipV="1" rot="16200000">
            <a:off x="6046920" y="3797640"/>
            <a:ext cx="1496160" cy="1399320"/>
          </a:xfrm>
          <a:prstGeom prst="bentConnector3">
            <a:avLst>
              <a:gd name="adj1" fmla="val 49987"/>
            </a:avLst>
          </a:prstGeom>
          <a:ln cap="sq" w="25560">
            <a:solidFill>
              <a:srgbClr val="ffffff"/>
            </a:solidFill>
            <a:miter/>
            <a:tailEnd len="med" type="triangle" w="med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28600" y="4876920"/>
            <a:ext cx="19051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35053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28195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35053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7086600" y="28195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9907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4800600" y="4876920"/>
            <a:ext cx="9907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4800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One Hop Link Layer Encryp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687600" y="19051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7697880" y="19051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2956680" y="1905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5258520" y="1905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3505320" y="4876920"/>
            <a:ext cx="91440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5791320" y="4876920"/>
            <a:ext cx="91440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Link Layer Encryp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7467480" y="3124080"/>
            <a:ext cx="1524240" cy="60984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154080" y="3125880"/>
            <a:ext cx="1527120" cy="6127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1676520" y="3124080"/>
            <a:ext cx="1527120" cy="612720"/>
          </a:xfrm>
          <a:prstGeom prst="rect">
            <a:avLst/>
          </a:prstGeom>
          <a:solidFill>
            <a:srgbClr val="9933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200400" y="3124080"/>
            <a:ext cx="1527120" cy="612720"/>
          </a:xfrm>
          <a:prstGeom prst="rect">
            <a:avLst/>
          </a:prstGeom>
          <a:solidFill>
            <a:srgbClr val="9933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3124080"/>
            <a:ext cx="2743200" cy="612720"/>
          </a:xfrm>
          <a:prstGeom prst="rect">
            <a:avLst/>
          </a:prstGeom>
          <a:solidFill>
            <a:srgbClr val="9933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2666880"/>
            <a:ext cx="7315200" cy="1600200"/>
          </a:xfrm>
          <a:prstGeom prst="rect">
            <a:avLst/>
          </a:prstGeom>
          <a:solidFill>
            <a:srgbClr val="dddddd">
              <a:alpha val="50000"/>
            </a:srgbClr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581280" y="21326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rypt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28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4191120"/>
            <a:ext cx="19051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35053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28195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7086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7086600" y="4191120"/>
            <a:ext cx="19051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7086600" y="35053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2514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4800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End-to-End Network Security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687600" y="19051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7697880" y="19051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2956680" y="1905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5258520" y="1905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Network Layer Transport Mode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6421320" y="2511360"/>
            <a:ext cx="893880" cy="3571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2135160" y="2513160"/>
            <a:ext cx="895320" cy="35856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3027240" y="2511360"/>
            <a:ext cx="895320" cy="3589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3921120" y="2511360"/>
            <a:ext cx="893880" cy="358920"/>
          </a:xfrm>
          <a:prstGeom prst="rect">
            <a:avLst/>
          </a:prstGeom>
          <a:solidFill>
            <a:srgbClr val="9933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4813200" y="2511360"/>
            <a:ext cx="1608120" cy="358920"/>
          </a:xfrm>
          <a:prstGeom prst="rect">
            <a:avLst/>
          </a:prstGeom>
          <a:solidFill>
            <a:srgbClr val="9933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7259760" y="4973760"/>
            <a:ext cx="893520" cy="3571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1184400" y="4975200"/>
            <a:ext cx="895320" cy="3589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2076480" y="4973760"/>
            <a:ext cx="895320" cy="35856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886200" y="4973760"/>
            <a:ext cx="893880" cy="358560"/>
          </a:xfrm>
          <a:prstGeom prst="rect">
            <a:avLst/>
          </a:prstGeom>
          <a:solidFill>
            <a:srgbClr val="9933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4778280" y="4973760"/>
            <a:ext cx="1608120" cy="358560"/>
          </a:xfrm>
          <a:prstGeom prst="rect">
            <a:avLst/>
          </a:prstGeom>
          <a:solidFill>
            <a:srgbClr val="9933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724280"/>
            <a:ext cx="2514600" cy="838440"/>
          </a:xfrm>
          <a:prstGeom prst="rect">
            <a:avLst/>
          </a:prstGeom>
          <a:solidFill>
            <a:srgbClr val="dddddd">
              <a:alpha val="50000"/>
            </a:srgbClr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4432320" y="4266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rypt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2286000"/>
            <a:ext cx="2514600" cy="838080"/>
          </a:xfrm>
          <a:prstGeom prst="rect">
            <a:avLst/>
          </a:prstGeom>
          <a:noFill/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57" name=""/>
          <p:cNvCxnSpPr>
            <a:stCxn id="356" idx="2"/>
          </p:cNvCxnSpPr>
          <p:nvPr/>
        </p:nvCxnSpPr>
        <p:spPr>
          <a:xfrm flipV="1" rot="10800000">
            <a:off x="5142960" y="3137040"/>
            <a:ext cx="1080" cy="1117800"/>
          </a:xfrm>
          <a:prstGeom prst="bentConnector2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58" name=""/>
          <p:cNvSpPr/>
          <p:nvPr/>
        </p:nvSpPr>
        <p:spPr>
          <a:xfrm>
            <a:off x="2971800" y="4973760"/>
            <a:ext cx="895320" cy="358560"/>
          </a:xfrm>
          <a:prstGeom prst="rect">
            <a:avLst/>
          </a:prstGeom>
          <a:solidFill>
            <a:srgbClr val="3333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d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6400800" y="4973760"/>
            <a:ext cx="895320" cy="358560"/>
          </a:xfrm>
          <a:prstGeom prst="rect">
            <a:avLst/>
          </a:prstGeom>
          <a:solidFill>
            <a:srgbClr val="3333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l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28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191120"/>
            <a:ext cx="19051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35053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" y="28195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7086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7086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7086600" y="35053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7086600" y="28195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2514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514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4800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VPN Gateway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687600" y="19051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>
            <a:off x="7697880" y="19051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2956680" y="1905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5258520" y="1905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4800600" y="4191120"/>
            <a:ext cx="19051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Network Layer Tunnel Mode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4440240" y="2664000"/>
            <a:ext cx="893880" cy="3571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154080" y="2665440"/>
            <a:ext cx="895320" cy="3589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1046160" y="2664000"/>
            <a:ext cx="895320" cy="358560"/>
          </a:xfrm>
          <a:prstGeom prst="rect">
            <a:avLst/>
          </a:prstGeom>
          <a:solidFill>
            <a:srgbClr val="9933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40040" y="2664000"/>
            <a:ext cx="893520" cy="358560"/>
          </a:xfrm>
          <a:prstGeom prst="rect">
            <a:avLst/>
          </a:prstGeom>
          <a:solidFill>
            <a:srgbClr val="9933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2832120" y="2664000"/>
            <a:ext cx="1608120" cy="358560"/>
          </a:xfrm>
          <a:prstGeom prst="rect">
            <a:avLst/>
          </a:prstGeom>
          <a:solidFill>
            <a:srgbClr val="9933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5126040"/>
            <a:ext cx="893520" cy="3571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152280" y="5127480"/>
            <a:ext cx="895320" cy="3589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1044720" y="5126040"/>
            <a:ext cx="895320" cy="358920"/>
          </a:xfrm>
          <a:prstGeom prst="rect">
            <a:avLst/>
          </a:prstGeom>
          <a:solidFill>
            <a:srgbClr val="3333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I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3733920" y="5126040"/>
            <a:ext cx="893520" cy="358920"/>
          </a:xfrm>
          <a:prstGeom prst="rect">
            <a:avLst/>
          </a:prstGeom>
          <a:solidFill>
            <a:srgbClr val="9933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4626000" y="5126040"/>
            <a:ext cx="1608120" cy="358920"/>
          </a:xfrm>
          <a:prstGeom prst="rect">
            <a:avLst/>
          </a:prstGeom>
          <a:solidFill>
            <a:srgbClr val="9933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1905120" y="5126040"/>
            <a:ext cx="895320" cy="358920"/>
          </a:xfrm>
          <a:prstGeom prst="rect">
            <a:avLst/>
          </a:prstGeom>
          <a:solidFill>
            <a:srgbClr val="3333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d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2819520" y="5126040"/>
            <a:ext cx="895320" cy="358920"/>
          </a:xfrm>
          <a:prstGeom prst="rect">
            <a:avLst/>
          </a:prstGeom>
          <a:solidFill>
            <a:srgbClr val="9933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2819520" y="4876920"/>
            <a:ext cx="3429000" cy="838080"/>
          </a:xfrm>
          <a:prstGeom prst="rect">
            <a:avLst/>
          </a:prstGeom>
          <a:solidFill>
            <a:srgbClr val="dddddd">
              <a:alpha val="50000"/>
            </a:srgbClr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3733920" y="44186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rypt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2438280"/>
            <a:ext cx="3353040" cy="838440"/>
          </a:xfrm>
          <a:prstGeom prst="rect">
            <a:avLst/>
          </a:prstGeom>
          <a:noFill/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93" name=""/>
          <p:cNvCxnSpPr>
            <a:stCxn id="392" idx="2"/>
            <a:endCxn id="391" idx="0"/>
          </p:cNvCxnSpPr>
          <p:nvPr/>
        </p:nvCxnSpPr>
        <p:spPr>
          <a:xfrm flipH="1" rot="16200000">
            <a:off x="3031200" y="3000240"/>
            <a:ext cx="1131120" cy="1708920"/>
          </a:xfrm>
          <a:prstGeom prst="bentConnector3">
            <a:avLst>
              <a:gd name="adj1" fmla="val 49411"/>
            </a:avLst>
          </a:prstGeom>
          <a:ln cap="sq"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6248520" y="5126040"/>
            <a:ext cx="895320" cy="358920"/>
          </a:xfrm>
          <a:prstGeom prst="rect">
            <a:avLst/>
          </a:prstGeom>
          <a:solidFill>
            <a:srgbClr val="3333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l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Layer 3 Implementation Options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s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twor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y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grat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dular (for tunnel mode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Modular Implementation: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Bump In The Stack (BITS)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4191120"/>
            <a:ext cx="19051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35053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600200" y="1905120"/>
            <a:ext cx="83808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086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7086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2514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>
            <a:off x="2514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4800600" y="4191120"/>
            <a:ext cx="19051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 + Se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1905120"/>
            <a:ext cx="83844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>
            <a:off x="8153280" y="1905120"/>
            <a:ext cx="83844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0" y="1905120"/>
            <a:ext cx="83808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228600" y="28195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7086600" y="35053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863640" y="2666880"/>
            <a:ext cx="7670880" cy="4000680"/>
          </a:xfrm>
          <a:custGeom>
            <a:avLst/>
            <a:gdLst/>
            <a:ahLst/>
            <a:rect l="l" t="t" r="r" b="b"/>
            <a:pathLst>
              <a:path w="4832" h="2520">
                <a:moveTo>
                  <a:pt x="656" y="0"/>
                </a:moveTo>
                <a:cubicBezTo>
                  <a:pt x="480" y="60"/>
                  <a:pt x="304" y="120"/>
                  <a:pt x="224" y="480"/>
                </a:cubicBezTo>
                <a:cubicBezTo>
                  <a:pt x="144" y="840"/>
                  <a:pt x="0" y="1880"/>
                  <a:pt x="176" y="2160"/>
                </a:cubicBezTo>
                <a:cubicBezTo>
                  <a:pt x="352" y="2440"/>
                  <a:pt x="1080" y="2328"/>
                  <a:pt x="1280" y="2160"/>
                </a:cubicBezTo>
                <a:cubicBezTo>
                  <a:pt x="1480" y="1992"/>
                  <a:pt x="1272" y="1320"/>
                  <a:pt x="1376" y="1152"/>
                </a:cubicBezTo>
                <a:cubicBezTo>
                  <a:pt x="1480" y="984"/>
                  <a:pt x="1816" y="976"/>
                  <a:pt x="1904" y="1152"/>
                </a:cubicBezTo>
                <a:cubicBezTo>
                  <a:pt x="1992" y="1328"/>
                  <a:pt x="1752" y="2032"/>
                  <a:pt x="1904" y="2208"/>
                </a:cubicBezTo>
                <a:cubicBezTo>
                  <a:pt x="2056" y="2384"/>
                  <a:pt x="2664" y="2384"/>
                  <a:pt x="2816" y="2208"/>
                </a:cubicBezTo>
                <a:cubicBezTo>
                  <a:pt x="2968" y="2032"/>
                  <a:pt x="2720" y="1328"/>
                  <a:pt x="2816" y="1152"/>
                </a:cubicBezTo>
                <a:cubicBezTo>
                  <a:pt x="2912" y="976"/>
                  <a:pt x="3296" y="968"/>
                  <a:pt x="3392" y="1152"/>
                </a:cubicBezTo>
                <a:cubicBezTo>
                  <a:pt x="3488" y="1336"/>
                  <a:pt x="3200" y="2080"/>
                  <a:pt x="3392" y="2256"/>
                </a:cubicBezTo>
                <a:cubicBezTo>
                  <a:pt x="3584" y="2432"/>
                  <a:pt x="4328" y="2520"/>
                  <a:pt x="4544" y="2208"/>
                </a:cubicBezTo>
                <a:cubicBezTo>
                  <a:pt x="4760" y="1896"/>
                  <a:pt x="4640" y="752"/>
                  <a:pt x="4688" y="384"/>
                </a:cubicBezTo>
                <a:cubicBezTo>
                  <a:pt x="4736" y="16"/>
                  <a:pt x="4816" y="64"/>
                  <a:pt x="4832" y="0"/>
                </a:cubicBezTo>
              </a:path>
            </a:pathLst>
          </a:custGeom>
          <a:noFill/>
          <a:ln cap="sq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800600" y="3505320"/>
            <a:ext cx="19051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Modular Implementation: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Bump In The Wire (BITW)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228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3505320"/>
            <a:ext cx="19051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1905120"/>
            <a:ext cx="83808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7086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2514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2514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4800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152280" y="1905120"/>
            <a:ext cx="83844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8153280" y="1905120"/>
            <a:ext cx="83844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0" y="1905120"/>
            <a:ext cx="83808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35053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7086600" y="35053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914400" y="2209680"/>
            <a:ext cx="7670880" cy="4000680"/>
          </a:xfrm>
          <a:custGeom>
            <a:avLst/>
            <a:gdLst/>
            <a:ahLst/>
            <a:rect l="l" t="t" r="r" b="b"/>
            <a:pathLst>
              <a:path w="4832" h="2520">
                <a:moveTo>
                  <a:pt x="656" y="0"/>
                </a:moveTo>
                <a:cubicBezTo>
                  <a:pt x="480" y="60"/>
                  <a:pt x="304" y="120"/>
                  <a:pt x="224" y="480"/>
                </a:cubicBezTo>
                <a:cubicBezTo>
                  <a:pt x="144" y="840"/>
                  <a:pt x="0" y="1880"/>
                  <a:pt x="176" y="2160"/>
                </a:cubicBezTo>
                <a:cubicBezTo>
                  <a:pt x="352" y="2440"/>
                  <a:pt x="1080" y="2328"/>
                  <a:pt x="1280" y="2160"/>
                </a:cubicBezTo>
                <a:cubicBezTo>
                  <a:pt x="1480" y="1992"/>
                  <a:pt x="1272" y="1320"/>
                  <a:pt x="1376" y="1152"/>
                </a:cubicBezTo>
                <a:cubicBezTo>
                  <a:pt x="1480" y="984"/>
                  <a:pt x="1816" y="976"/>
                  <a:pt x="1904" y="1152"/>
                </a:cubicBezTo>
                <a:cubicBezTo>
                  <a:pt x="1992" y="1328"/>
                  <a:pt x="1752" y="2032"/>
                  <a:pt x="1904" y="2208"/>
                </a:cubicBezTo>
                <a:cubicBezTo>
                  <a:pt x="2056" y="2384"/>
                  <a:pt x="2664" y="2384"/>
                  <a:pt x="2816" y="2208"/>
                </a:cubicBezTo>
                <a:cubicBezTo>
                  <a:pt x="2968" y="2032"/>
                  <a:pt x="2720" y="1328"/>
                  <a:pt x="2816" y="1152"/>
                </a:cubicBezTo>
                <a:cubicBezTo>
                  <a:pt x="2912" y="976"/>
                  <a:pt x="3296" y="968"/>
                  <a:pt x="3392" y="1152"/>
                </a:cubicBezTo>
                <a:cubicBezTo>
                  <a:pt x="3488" y="1336"/>
                  <a:pt x="3200" y="2080"/>
                  <a:pt x="3392" y="2256"/>
                </a:cubicBezTo>
                <a:cubicBezTo>
                  <a:pt x="3584" y="2432"/>
                  <a:pt x="4328" y="2520"/>
                  <a:pt x="4544" y="2208"/>
                </a:cubicBezTo>
                <a:cubicBezTo>
                  <a:pt x="4760" y="1896"/>
                  <a:pt x="4640" y="752"/>
                  <a:pt x="4688" y="384"/>
                </a:cubicBezTo>
                <a:cubicBezTo>
                  <a:pt x="4736" y="16"/>
                  <a:pt x="4816" y="64"/>
                  <a:pt x="4832" y="0"/>
                </a:cubicBezTo>
              </a:path>
            </a:pathLst>
          </a:custGeom>
          <a:noFill/>
          <a:ln cap="sq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PKI System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ree Philosoph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erarch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U X.509 (DAP, PKIX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b of Trus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G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d hoc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S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st research stud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Implementation Options: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Integrated on Host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4191120"/>
            <a:ext cx="19051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 + Se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905120"/>
            <a:ext cx="83808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7086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4191120"/>
            <a:ext cx="19051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 + Se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4800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800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1905120"/>
            <a:ext cx="83844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8153280" y="1905120"/>
            <a:ext cx="83844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0" y="1905120"/>
            <a:ext cx="83808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" y="35053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5053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863640" y="2666880"/>
            <a:ext cx="7670880" cy="4000680"/>
          </a:xfrm>
          <a:custGeom>
            <a:avLst/>
            <a:gdLst/>
            <a:ahLst/>
            <a:rect l="l" t="t" r="r" b="b"/>
            <a:pathLst>
              <a:path w="4832" h="2520">
                <a:moveTo>
                  <a:pt x="656" y="0"/>
                </a:moveTo>
                <a:cubicBezTo>
                  <a:pt x="480" y="60"/>
                  <a:pt x="304" y="120"/>
                  <a:pt x="224" y="480"/>
                </a:cubicBezTo>
                <a:cubicBezTo>
                  <a:pt x="144" y="840"/>
                  <a:pt x="0" y="1880"/>
                  <a:pt x="176" y="2160"/>
                </a:cubicBezTo>
                <a:cubicBezTo>
                  <a:pt x="352" y="2440"/>
                  <a:pt x="1080" y="2328"/>
                  <a:pt x="1280" y="2160"/>
                </a:cubicBezTo>
                <a:cubicBezTo>
                  <a:pt x="1480" y="1992"/>
                  <a:pt x="1272" y="1320"/>
                  <a:pt x="1376" y="1152"/>
                </a:cubicBezTo>
                <a:cubicBezTo>
                  <a:pt x="1480" y="984"/>
                  <a:pt x="1816" y="976"/>
                  <a:pt x="1904" y="1152"/>
                </a:cubicBezTo>
                <a:cubicBezTo>
                  <a:pt x="1992" y="1328"/>
                  <a:pt x="1752" y="2032"/>
                  <a:pt x="1904" y="2208"/>
                </a:cubicBezTo>
                <a:cubicBezTo>
                  <a:pt x="2056" y="2384"/>
                  <a:pt x="2664" y="2384"/>
                  <a:pt x="2816" y="2208"/>
                </a:cubicBezTo>
                <a:cubicBezTo>
                  <a:pt x="2968" y="2032"/>
                  <a:pt x="2720" y="1328"/>
                  <a:pt x="2816" y="1152"/>
                </a:cubicBezTo>
                <a:cubicBezTo>
                  <a:pt x="2912" y="976"/>
                  <a:pt x="3296" y="968"/>
                  <a:pt x="3392" y="1152"/>
                </a:cubicBezTo>
                <a:cubicBezTo>
                  <a:pt x="3488" y="1336"/>
                  <a:pt x="3200" y="2080"/>
                  <a:pt x="3392" y="2256"/>
                </a:cubicBezTo>
                <a:cubicBezTo>
                  <a:pt x="3584" y="2432"/>
                  <a:pt x="4328" y="2520"/>
                  <a:pt x="4544" y="2208"/>
                </a:cubicBezTo>
                <a:cubicBezTo>
                  <a:pt x="4760" y="1896"/>
                  <a:pt x="4640" y="752"/>
                  <a:pt x="4688" y="384"/>
                </a:cubicBezTo>
                <a:cubicBezTo>
                  <a:pt x="4736" y="16"/>
                  <a:pt x="4816" y="64"/>
                  <a:pt x="4832" y="0"/>
                </a:cubicBezTo>
              </a:path>
            </a:pathLst>
          </a:custGeom>
          <a:noFill/>
          <a:ln cap="sq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Implementation Options: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Integrated on Router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228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1600200" y="1905120"/>
            <a:ext cx="83808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7086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2514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2514600" y="4191120"/>
            <a:ext cx="19051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 + Se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4800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4800600" y="4191120"/>
            <a:ext cx="19051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 + Se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152280" y="1905120"/>
            <a:ext cx="83844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8153280" y="1905120"/>
            <a:ext cx="83844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0" y="1905120"/>
            <a:ext cx="83808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35053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7086600" y="35053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863640" y="2666880"/>
            <a:ext cx="7670880" cy="4000680"/>
          </a:xfrm>
          <a:custGeom>
            <a:avLst/>
            <a:gdLst/>
            <a:ahLst/>
            <a:rect l="l" t="t" r="r" b="b"/>
            <a:pathLst>
              <a:path w="4832" h="2520">
                <a:moveTo>
                  <a:pt x="656" y="0"/>
                </a:moveTo>
                <a:cubicBezTo>
                  <a:pt x="480" y="60"/>
                  <a:pt x="304" y="120"/>
                  <a:pt x="224" y="480"/>
                </a:cubicBezTo>
                <a:cubicBezTo>
                  <a:pt x="144" y="840"/>
                  <a:pt x="0" y="1880"/>
                  <a:pt x="176" y="2160"/>
                </a:cubicBezTo>
                <a:cubicBezTo>
                  <a:pt x="352" y="2440"/>
                  <a:pt x="1080" y="2328"/>
                  <a:pt x="1280" y="2160"/>
                </a:cubicBezTo>
                <a:cubicBezTo>
                  <a:pt x="1480" y="1992"/>
                  <a:pt x="1272" y="1320"/>
                  <a:pt x="1376" y="1152"/>
                </a:cubicBezTo>
                <a:cubicBezTo>
                  <a:pt x="1480" y="984"/>
                  <a:pt x="1816" y="976"/>
                  <a:pt x="1904" y="1152"/>
                </a:cubicBezTo>
                <a:cubicBezTo>
                  <a:pt x="1992" y="1328"/>
                  <a:pt x="1752" y="2032"/>
                  <a:pt x="1904" y="2208"/>
                </a:cubicBezTo>
                <a:cubicBezTo>
                  <a:pt x="2056" y="2384"/>
                  <a:pt x="2664" y="2384"/>
                  <a:pt x="2816" y="2208"/>
                </a:cubicBezTo>
                <a:cubicBezTo>
                  <a:pt x="2968" y="2032"/>
                  <a:pt x="2720" y="1328"/>
                  <a:pt x="2816" y="1152"/>
                </a:cubicBezTo>
                <a:cubicBezTo>
                  <a:pt x="2912" y="976"/>
                  <a:pt x="3296" y="968"/>
                  <a:pt x="3392" y="1152"/>
                </a:cubicBezTo>
                <a:cubicBezTo>
                  <a:pt x="3488" y="1336"/>
                  <a:pt x="3200" y="2080"/>
                  <a:pt x="3392" y="2256"/>
                </a:cubicBezTo>
                <a:cubicBezTo>
                  <a:pt x="3584" y="2432"/>
                  <a:pt x="4328" y="2520"/>
                  <a:pt x="4544" y="2208"/>
                </a:cubicBezTo>
                <a:cubicBezTo>
                  <a:pt x="4760" y="1896"/>
                  <a:pt x="4640" y="752"/>
                  <a:pt x="4688" y="384"/>
                </a:cubicBezTo>
                <a:cubicBezTo>
                  <a:pt x="4736" y="16"/>
                  <a:pt x="4816" y="64"/>
                  <a:pt x="4832" y="0"/>
                </a:cubicBezTo>
              </a:path>
            </a:pathLst>
          </a:custGeom>
          <a:noFill/>
          <a:ln cap="sq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Network Security Location Options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2800440"/>
            <a:ext cx="746280" cy="32364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" y="2476440"/>
            <a:ext cx="746280" cy="3240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" y="2152800"/>
            <a:ext cx="746280" cy="32364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" y="1828800"/>
            <a:ext cx="746280" cy="3240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3139920" y="2800440"/>
            <a:ext cx="746280" cy="32364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>
            <a:off x="3139920" y="2476440"/>
            <a:ext cx="746280" cy="3240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3139920" y="2152800"/>
            <a:ext cx="746280" cy="32364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3139920" y="1828800"/>
            <a:ext cx="746280" cy="3240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1351080" y="2800440"/>
            <a:ext cx="745920" cy="32364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1351080" y="2476440"/>
            <a:ext cx="745920" cy="3240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2246400" y="2800440"/>
            <a:ext cx="745920" cy="32364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2246400" y="2476440"/>
            <a:ext cx="745920" cy="3240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" y="4476600"/>
            <a:ext cx="746280" cy="3240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4152960"/>
            <a:ext cx="746280" cy="32364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" y="3828960"/>
            <a:ext cx="746280" cy="3240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3505320"/>
            <a:ext cx="746280" cy="32364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3139920" y="4476600"/>
            <a:ext cx="746280" cy="3240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3139920" y="4152960"/>
            <a:ext cx="746280" cy="32364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3139920" y="3828960"/>
            <a:ext cx="746280" cy="3240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139920" y="3505320"/>
            <a:ext cx="746280" cy="32364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1351080" y="4476600"/>
            <a:ext cx="745920" cy="3240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1351080" y="4152960"/>
            <a:ext cx="745920" cy="32364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2246400" y="4476600"/>
            <a:ext cx="745920" cy="3240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2246400" y="4152960"/>
            <a:ext cx="745920" cy="32364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457200" y="6076800"/>
            <a:ext cx="746280" cy="3240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5753160"/>
            <a:ext cx="746280" cy="32364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5429160"/>
            <a:ext cx="746280" cy="3240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5105520"/>
            <a:ext cx="746280" cy="32364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3139920" y="6076800"/>
            <a:ext cx="746280" cy="3240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3139920" y="5753160"/>
            <a:ext cx="746280" cy="32364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3139920" y="5429160"/>
            <a:ext cx="746280" cy="3240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3139920" y="5105520"/>
            <a:ext cx="746280" cy="32364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1351080" y="6076800"/>
            <a:ext cx="745920" cy="3240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8" name=""/>
          <p:cNvSpPr/>
          <p:nvPr/>
        </p:nvSpPr>
        <p:spPr>
          <a:xfrm>
            <a:off x="1351080" y="5753160"/>
            <a:ext cx="745920" cy="32364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2246400" y="6076800"/>
            <a:ext cx="745920" cy="3240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2246400" y="5753160"/>
            <a:ext cx="745920" cy="32364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"/>
          <p:cNvSpPr/>
          <p:nvPr/>
        </p:nvSpPr>
        <p:spPr>
          <a:xfrm>
            <a:off x="4973400" y="2133720"/>
            <a:ext cx="32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d-to-End 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"/>
          <p:cNvSpPr/>
          <p:nvPr/>
        </p:nvSpPr>
        <p:spPr>
          <a:xfrm>
            <a:off x="4908960" y="388620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luntary Tunn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4914720" y="556272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voluntary Tunn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28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228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228600" y="3505320"/>
            <a:ext cx="19051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" y="28195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7086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3505320"/>
            <a:ext cx="1905120" cy="68580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28195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2" name=""/>
          <p:cNvSpPr/>
          <p:nvPr/>
        </p:nvSpPr>
        <p:spPr>
          <a:xfrm>
            <a:off x="2514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2514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4800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4800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Transport Layer Security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687600" y="19051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7697880" y="19051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2956680" y="1905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>
            <a:off x="5258520" y="1905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Transport Layer Encryp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22" name=""/>
          <p:cNvSpPr/>
          <p:nvPr/>
        </p:nvSpPr>
        <p:spPr>
          <a:xfrm>
            <a:off x="6345360" y="2435400"/>
            <a:ext cx="893520" cy="3571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1219320" y="2436840"/>
            <a:ext cx="895320" cy="3589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2111400" y="2435400"/>
            <a:ext cx="895320" cy="35856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3005280" y="2435400"/>
            <a:ext cx="893520" cy="35856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3886200" y="2435400"/>
            <a:ext cx="2514600" cy="358560"/>
          </a:xfrm>
          <a:prstGeom prst="rect">
            <a:avLst/>
          </a:prstGeom>
          <a:solidFill>
            <a:srgbClr val="9933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6345360" y="4897440"/>
            <a:ext cx="893520" cy="3571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1219320" y="4898880"/>
            <a:ext cx="895320" cy="3589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2111400" y="4897440"/>
            <a:ext cx="895320" cy="3589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"/>
          <p:cNvSpPr/>
          <p:nvPr/>
        </p:nvSpPr>
        <p:spPr>
          <a:xfrm>
            <a:off x="2971800" y="4897440"/>
            <a:ext cx="893880" cy="3589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4343400" y="4897440"/>
            <a:ext cx="2001960" cy="358920"/>
          </a:xfrm>
          <a:prstGeom prst="rect">
            <a:avLst/>
          </a:prstGeom>
          <a:solidFill>
            <a:srgbClr val="9933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4848120" y="41900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rypt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3886200" y="2209680"/>
            <a:ext cx="2514600" cy="838440"/>
          </a:xfrm>
          <a:prstGeom prst="rect">
            <a:avLst/>
          </a:prstGeom>
          <a:noFill/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3809880" y="4897440"/>
            <a:ext cx="533520" cy="35892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535" name=""/>
          <p:cNvCxnSpPr>
            <a:stCxn id="533" idx="2"/>
            <a:endCxn id="532" idx="0"/>
          </p:cNvCxnSpPr>
          <p:nvPr/>
        </p:nvCxnSpPr>
        <p:spPr>
          <a:xfrm flipH="1" rot="16200000">
            <a:off x="4789440" y="3414600"/>
            <a:ext cx="1131120" cy="422640"/>
          </a:xfrm>
          <a:prstGeom prst="bentConnector3">
            <a:avLst>
              <a:gd name="adj1" fmla="val 49411"/>
            </a:avLst>
          </a:prstGeom>
          <a:ln cap="sq"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6" name=""/>
          <p:cNvSpPr/>
          <p:nvPr/>
        </p:nvSpPr>
        <p:spPr>
          <a:xfrm>
            <a:off x="5486400" y="5942160"/>
            <a:ext cx="893880" cy="3571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2077920" y="5943600"/>
            <a:ext cx="895320" cy="35892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2970360" y="5942160"/>
            <a:ext cx="895320" cy="35856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3830760" y="5942160"/>
            <a:ext cx="893520" cy="35856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4737240" y="5942160"/>
            <a:ext cx="749160" cy="358560"/>
          </a:xfrm>
          <a:prstGeom prst="rect">
            <a:avLst/>
          </a:prstGeom>
          <a:solidFill>
            <a:srgbClr val="9933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>
            <a:off x="4724280" y="5715000"/>
            <a:ext cx="762120" cy="838080"/>
          </a:xfrm>
          <a:prstGeom prst="rect">
            <a:avLst/>
          </a:prstGeom>
          <a:solidFill>
            <a:srgbClr val="dddddd">
              <a:alpha val="50000"/>
            </a:srgbClr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3809880" y="4648320"/>
            <a:ext cx="2549520" cy="838080"/>
          </a:xfrm>
          <a:prstGeom prst="rect">
            <a:avLst/>
          </a:prstGeom>
          <a:solidFill>
            <a:srgbClr val="dddddd">
              <a:alpha val="50000"/>
            </a:srgbClr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Message Processing Sequence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228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228600" y="35053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600200" y="1905120"/>
            <a:ext cx="83808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7086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0" name=""/>
          <p:cNvSpPr/>
          <p:nvPr/>
        </p:nvSpPr>
        <p:spPr>
          <a:xfrm>
            <a:off x="7086600" y="35053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1" name=""/>
          <p:cNvSpPr/>
          <p:nvPr/>
        </p:nvSpPr>
        <p:spPr>
          <a:xfrm>
            <a:off x="2514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2514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4800600" y="48769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4800600" y="4191120"/>
            <a:ext cx="190512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1905120"/>
            <a:ext cx="83844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8153280" y="1905120"/>
            <a:ext cx="83844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0" y="1905120"/>
            <a:ext cx="838080" cy="685800"/>
          </a:xfrm>
          <a:prstGeom prst="rect">
            <a:avLst/>
          </a:prstGeom>
          <a:solidFill>
            <a:srgbClr val="ff00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1005120" y="2818080"/>
            <a:ext cx="1374120" cy="45972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2 Se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7634520" y="2754720"/>
            <a:ext cx="1374120" cy="45972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2 Se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863640" y="2666880"/>
            <a:ext cx="7670880" cy="4000680"/>
          </a:xfrm>
          <a:custGeom>
            <a:avLst/>
            <a:gdLst/>
            <a:ahLst/>
            <a:rect l="l" t="t" r="r" b="b"/>
            <a:pathLst>
              <a:path w="4832" h="2520">
                <a:moveTo>
                  <a:pt x="656" y="0"/>
                </a:moveTo>
                <a:cubicBezTo>
                  <a:pt x="480" y="60"/>
                  <a:pt x="304" y="120"/>
                  <a:pt x="224" y="480"/>
                </a:cubicBezTo>
                <a:cubicBezTo>
                  <a:pt x="144" y="840"/>
                  <a:pt x="0" y="1880"/>
                  <a:pt x="176" y="2160"/>
                </a:cubicBezTo>
                <a:cubicBezTo>
                  <a:pt x="352" y="2440"/>
                  <a:pt x="1080" y="2328"/>
                  <a:pt x="1280" y="2160"/>
                </a:cubicBezTo>
                <a:cubicBezTo>
                  <a:pt x="1480" y="1992"/>
                  <a:pt x="1272" y="1320"/>
                  <a:pt x="1376" y="1152"/>
                </a:cubicBezTo>
                <a:cubicBezTo>
                  <a:pt x="1480" y="984"/>
                  <a:pt x="1816" y="976"/>
                  <a:pt x="1904" y="1152"/>
                </a:cubicBezTo>
                <a:cubicBezTo>
                  <a:pt x="1992" y="1328"/>
                  <a:pt x="1752" y="2032"/>
                  <a:pt x="1904" y="2208"/>
                </a:cubicBezTo>
                <a:cubicBezTo>
                  <a:pt x="2056" y="2384"/>
                  <a:pt x="2664" y="2384"/>
                  <a:pt x="2816" y="2208"/>
                </a:cubicBezTo>
                <a:cubicBezTo>
                  <a:pt x="2968" y="2032"/>
                  <a:pt x="2720" y="1328"/>
                  <a:pt x="2816" y="1152"/>
                </a:cubicBezTo>
                <a:cubicBezTo>
                  <a:pt x="2912" y="976"/>
                  <a:pt x="3296" y="968"/>
                  <a:pt x="3392" y="1152"/>
                </a:cubicBezTo>
                <a:cubicBezTo>
                  <a:pt x="3488" y="1336"/>
                  <a:pt x="3200" y="2080"/>
                  <a:pt x="3392" y="2256"/>
                </a:cubicBezTo>
                <a:cubicBezTo>
                  <a:pt x="3584" y="2432"/>
                  <a:pt x="4328" y="2520"/>
                  <a:pt x="4544" y="2208"/>
                </a:cubicBezTo>
                <a:cubicBezTo>
                  <a:pt x="4760" y="1896"/>
                  <a:pt x="4640" y="752"/>
                  <a:pt x="4688" y="384"/>
                </a:cubicBezTo>
                <a:cubicBezTo>
                  <a:pt x="4736" y="16"/>
                  <a:pt x="4816" y="64"/>
                  <a:pt x="4832" y="0"/>
                </a:cubicBezTo>
              </a:path>
            </a:pathLst>
          </a:custGeom>
          <a:noFill/>
          <a:ln cap="sq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Application Layer Security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54080" y="1825560"/>
            <a:ext cx="5179680" cy="360360"/>
            <a:chOff x="154080" y="1825560"/>
            <a:chExt cx="5179680" cy="360360"/>
          </a:xfrm>
        </p:grpSpPr>
        <p:sp>
          <p:nvSpPr>
            <p:cNvPr id="563" name=""/>
            <p:cNvSpPr/>
            <p:nvPr/>
          </p:nvSpPr>
          <p:spPr>
            <a:xfrm>
              <a:off x="4440960" y="1825560"/>
              <a:ext cx="892800" cy="357120"/>
            </a:xfrm>
            <a:prstGeom prst="rect">
              <a:avLst/>
            </a:prstGeom>
            <a:solidFill>
              <a:srgbClr val="993300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ink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4080" y="1826640"/>
              <a:ext cx="894960" cy="359280"/>
            </a:xfrm>
            <a:prstGeom prst="rect">
              <a:avLst/>
            </a:prstGeom>
            <a:solidFill>
              <a:srgbClr val="993300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ink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45800" y="1825560"/>
              <a:ext cx="895320" cy="359280"/>
            </a:xfrm>
            <a:prstGeom prst="rect">
              <a:avLst/>
            </a:prstGeom>
            <a:solidFill>
              <a:srgbClr val="333300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P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39320" y="1825560"/>
              <a:ext cx="895320" cy="359280"/>
            </a:xfrm>
            <a:prstGeom prst="rect">
              <a:avLst/>
            </a:prstGeom>
            <a:solidFill>
              <a:srgbClr val="000080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CP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32480" y="1825560"/>
              <a:ext cx="1608480" cy="359280"/>
            </a:xfrm>
            <a:prstGeom prst="rect">
              <a:avLst/>
            </a:prstGeom>
            <a:solidFill>
              <a:srgbClr val="000000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5319720" y="4287960"/>
            <a:ext cx="893880" cy="357120"/>
          </a:xfrm>
          <a:prstGeom prst="rect">
            <a:avLst/>
          </a:prstGeom>
          <a:solidFill>
            <a:srgbClr val="9933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4289400"/>
            <a:ext cx="895320" cy="358920"/>
          </a:xfrm>
          <a:prstGeom prst="rect">
            <a:avLst/>
          </a:prstGeom>
          <a:solidFill>
            <a:srgbClr val="9933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"/>
          <p:cNvSpPr/>
          <p:nvPr/>
        </p:nvSpPr>
        <p:spPr>
          <a:xfrm>
            <a:off x="1044720" y="4287960"/>
            <a:ext cx="895320" cy="358560"/>
          </a:xfrm>
          <a:prstGeom prst="rect">
            <a:avLst/>
          </a:prstGeom>
          <a:solidFill>
            <a:srgbClr val="3333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1" name=""/>
          <p:cNvSpPr/>
          <p:nvPr/>
        </p:nvSpPr>
        <p:spPr>
          <a:xfrm>
            <a:off x="2819520" y="4287960"/>
            <a:ext cx="893520" cy="358560"/>
          </a:xfrm>
          <a:prstGeom prst="rect">
            <a:avLst/>
          </a:prstGeom>
          <a:solidFill>
            <a:srgbClr val="00008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"/>
          <p:cNvSpPr/>
          <p:nvPr/>
        </p:nvSpPr>
        <p:spPr>
          <a:xfrm>
            <a:off x="3711600" y="4287960"/>
            <a:ext cx="1608120" cy="358560"/>
          </a:xfrm>
          <a:prstGeom prst="rect">
            <a:avLst/>
          </a:prstGeom>
          <a:solidFill>
            <a:srgbClr val="0000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1905120" y="4287960"/>
            <a:ext cx="895320" cy="358560"/>
          </a:xfrm>
          <a:prstGeom prst="rect">
            <a:avLst/>
          </a:prstGeom>
          <a:solidFill>
            <a:srgbClr val="3333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ey I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"/>
          <p:cNvSpPr/>
          <p:nvPr/>
        </p:nvSpPr>
        <p:spPr>
          <a:xfrm>
            <a:off x="4419720" y="4038480"/>
            <a:ext cx="609480" cy="838440"/>
          </a:xfrm>
          <a:prstGeom prst="rect">
            <a:avLst/>
          </a:prstGeom>
          <a:solidFill>
            <a:srgbClr val="dddddd">
              <a:alpha val="50000"/>
            </a:srgbClr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3822840" y="35802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rypt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"/>
          <p:cNvSpPr/>
          <p:nvPr/>
        </p:nvSpPr>
        <p:spPr>
          <a:xfrm>
            <a:off x="3352680" y="1600200"/>
            <a:ext cx="685800" cy="838080"/>
          </a:xfrm>
          <a:prstGeom prst="rect">
            <a:avLst/>
          </a:prstGeom>
          <a:noFill/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577" name=""/>
          <p:cNvCxnSpPr>
            <a:stCxn id="576" idx="2"/>
            <a:endCxn id="575" idx="0"/>
          </p:cNvCxnSpPr>
          <p:nvPr/>
        </p:nvCxnSpPr>
        <p:spPr>
          <a:xfrm flipH="1" rot="16200000">
            <a:off x="3552840" y="2593440"/>
            <a:ext cx="1130760" cy="845280"/>
          </a:xfrm>
          <a:prstGeom prst="bentConnector3">
            <a:avLst>
              <a:gd name="adj1" fmla="val 49426"/>
            </a:avLst>
          </a:prstGeom>
          <a:ln cap="sq" w="25560">
            <a:solidFill>
              <a:srgbClr val="ffffff"/>
            </a:solidFill>
            <a:miter/>
            <a:tailEnd len="med" type="triangle" w="med"/>
          </a:ln>
        </p:spPr>
      </p:cxn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Link Layer Security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nsparent to applica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rdware solution possib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address especially vulnerable links (viz. wireles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sadvantage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p-by-hop protection causes multiple applications of crypto opera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y not provide end to end securit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Network Layer Security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vantag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nsparent to applica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menable to hardwa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lexib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es routing more complex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lexibility introduces policy management and compatibility challen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Transport Layer Security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vantag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nsparent to applications and may be packaged with applica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posing TCP enables compression and QoS classific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bably implemented in softwa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posing TCP risks Do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38280" y="3276720"/>
            <a:ext cx="3124440" cy="327636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X.509 Certificate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830160" y="2057400"/>
            <a:ext cx="68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.509 certificates bind a subject to a public ke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binding is signed by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ertificate Authority (CA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666880" y="3505320"/>
            <a:ext cx="2666880" cy="2743200"/>
            <a:chOff x="2666880" y="3505320"/>
            <a:chExt cx="2666880" cy="2743200"/>
          </a:xfrm>
        </p:grpSpPr>
        <p:sp>
          <p:nvSpPr>
            <p:cNvPr id="89" name=""/>
            <p:cNvSpPr/>
            <p:nvPr/>
          </p:nvSpPr>
          <p:spPr>
            <a:xfrm>
              <a:off x="2666880" y="3505320"/>
              <a:ext cx="2666880" cy="6094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ubject Name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4114800"/>
              <a:ext cx="2666880" cy="60984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ubject Public Key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66880" y="4724640"/>
              <a:ext cx="2666880" cy="6094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 Name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6880" y="5639040"/>
              <a:ext cx="2666880" cy="609480"/>
            </a:xfrm>
            <a:prstGeom prst="rect">
              <a:avLst/>
            </a:prstGeom>
            <a:solidFill>
              <a:srgbClr val="99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 Signature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666880" y="3505320"/>
            <a:ext cx="2667240" cy="60948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ject Na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4114800"/>
            <a:ext cx="2667240" cy="60948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ject Public Ke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4724280"/>
            <a:ext cx="2667240" cy="60984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 Na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5638680"/>
            <a:ext cx="2667240" cy="60984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 Signat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Application Layer Security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vantag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stomized to applic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quires no special protocol stack (transparent to networking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sadvantage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rd to share between applications (viz. standardization challenge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Protocols to Software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e are important differences between theoretical descriptions, standards and softwa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volution (versions, extensibility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operability (options, negotiation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rror mod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wo brief case stud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nsport Layer Security (TL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twork layer security (Ipsec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Secure Socket Layer (SSL)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ssion protocol with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rver authentic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ient authentication opt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tegrity checksu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fidentialit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ssibly the most important security-related ecommerce protoco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ssion sets up security paramet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ny connections possible within a given sess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version TLS 1.0 </a:t>
            </a:r>
            <a:r>
              <a:rPr b="0" lang="en-US" sz="2800" spc="-1" strike="noStrike" u="sng">
                <a:solidFill>
                  <a:srgbClr val="ff00ff"/>
                </a:solidFill>
                <a:uFillTx/>
                <a:latin typeface="Comic Sans MS"/>
                <a:hlinkClick r:id="rId1"/>
              </a:rPr>
              <a:t>http://www.ietf.org/rfc/rfc2246.tx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X.509 Key Est. Messages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t DA = EB(k), rA, LA, 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t DB = rB, LB, rA, 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wo message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-&gt; B : certA, DA, SA(DA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eck that the nonce rA has not been seen, and is not expired according to LA.  Remember it for its lifetime L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 -&gt; A : certB, DB, SB(DB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eck the rA and A.  Check that rB has not been seen and is not expired according to LB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Establish Security Capabilitie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2606760" y="1981080"/>
            <a:ext cx="0" cy="411480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4" name=""/>
          <p:cNvSpPr/>
          <p:nvPr/>
        </p:nvSpPr>
        <p:spPr>
          <a:xfrm>
            <a:off x="6416640" y="1981080"/>
            <a:ext cx="0" cy="411480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5" name=""/>
          <p:cNvSpPr/>
          <p:nvPr/>
        </p:nvSpPr>
        <p:spPr>
          <a:xfrm>
            <a:off x="2606760" y="2133720"/>
            <a:ext cx="3809880" cy="144756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2606400" y="3886200"/>
            <a:ext cx="3809880" cy="198108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7" name=""/>
          <p:cNvSpPr/>
          <p:nvPr/>
        </p:nvSpPr>
        <p:spPr>
          <a:xfrm rot="1250400">
            <a:off x="3672000" y="243828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 Hell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8" name=""/>
          <p:cNvSpPr/>
          <p:nvPr/>
        </p:nvSpPr>
        <p:spPr>
          <a:xfrm rot="19942200">
            <a:off x="3445200" y="457164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 Hell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9" name=""/>
          <p:cNvSpPr/>
          <p:nvPr/>
        </p:nvSpPr>
        <p:spPr>
          <a:xfrm>
            <a:off x="2136600" y="14479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5895000" y="14479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1219320" y="27846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1616040" y="3276720"/>
            <a:ext cx="0" cy="11430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Server Auth &amp; Key Exchange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04" name=""/>
          <p:cNvSpPr/>
          <p:nvPr/>
        </p:nvSpPr>
        <p:spPr>
          <a:xfrm>
            <a:off x="2424240" y="1752480"/>
            <a:ext cx="0" cy="487692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6218280" y="1752480"/>
            <a:ext cx="15840" cy="487692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423880" y="4541400"/>
            <a:ext cx="3809880" cy="2088000"/>
            <a:chOff x="2423880" y="4541400"/>
            <a:chExt cx="3809880" cy="2088000"/>
          </a:xfrm>
        </p:grpSpPr>
        <p:sp>
          <p:nvSpPr>
            <p:cNvPr id="607" name=""/>
            <p:cNvSpPr/>
            <p:nvPr/>
          </p:nvSpPr>
          <p:spPr>
            <a:xfrm flipH="1">
              <a:off x="2423880" y="4648320"/>
              <a:ext cx="3809880" cy="198108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9942200">
              <a:off x="3226320" y="5087520"/>
              <a:ext cx="24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rver Hello Done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954080" y="12193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5712480" y="1219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1036800" y="25560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1433520" y="3048120"/>
            <a:ext cx="0" cy="11430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423880" y="3733920"/>
            <a:ext cx="3809880" cy="1981080"/>
            <a:chOff x="2423880" y="3733920"/>
            <a:chExt cx="3809880" cy="1981080"/>
          </a:xfrm>
        </p:grpSpPr>
        <p:sp>
          <p:nvSpPr>
            <p:cNvPr id="614" name=""/>
            <p:cNvSpPr/>
            <p:nvPr/>
          </p:nvSpPr>
          <p:spPr>
            <a:xfrm flipH="1">
              <a:off x="2423880" y="3733920"/>
              <a:ext cx="3809880" cy="198108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19942200">
              <a:off x="2875320" y="4338360"/>
              <a:ext cx="25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cc"/>
                  </a:solidFill>
                  <a:latin typeface="Times New Roman"/>
                </a:rPr>
                <a:t>Certificate Reques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423880" y="2464200"/>
            <a:ext cx="3809880" cy="2260080"/>
            <a:chOff x="2423880" y="2464200"/>
            <a:chExt cx="3809880" cy="2260080"/>
          </a:xfrm>
        </p:grpSpPr>
        <p:sp>
          <p:nvSpPr>
            <p:cNvPr id="617" name=""/>
            <p:cNvSpPr/>
            <p:nvPr/>
          </p:nvSpPr>
          <p:spPr>
            <a:xfrm flipH="1">
              <a:off x="2423880" y="2743200"/>
              <a:ext cx="3809880" cy="198108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9942200">
              <a:off x="3204000" y="3096360"/>
              <a:ext cx="284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cc"/>
                  </a:solidFill>
                  <a:latin typeface="Times New Roman"/>
                </a:rPr>
                <a:t>Server Key Exchange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2423880" y="1752480"/>
            <a:ext cx="3809880" cy="1981080"/>
            <a:chOff x="2423880" y="1752480"/>
            <a:chExt cx="3809880" cy="1981080"/>
          </a:xfrm>
        </p:grpSpPr>
        <p:sp>
          <p:nvSpPr>
            <p:cNvPr id="620" name=""/>
            <p:cNvSpPr/>
            <p:nvPr/>
          </p:nvSpPr>
          <p:spPr>
            <a:xfrm flipH="1">
              <a:off x="2423880" y="1752480"/>
              <a:ext cx="3809880" cy="198108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9942200">
              <a:off x="3279960" y="2422080"/>
              <a:ext cx="14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cc"/>
                  </a:solidFill>
                  <a:latin typeface="Times New Roman"/>
                </a:rPr>
                <a:t>Certificate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6675480" y="25909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Option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6370560" y="1752480"/>
            <a:ext cx="152640" cy="2057400"/>
          </a:xfrm>
          <a:custGeom>
            <a:avLst/>
            <a:gdLst>
              <a:gd name="textAreaLeft" fmla="*/ 0 w 152640"/>
              <a:gd name="textAreaRight" fmla="*/ 5508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Client Auth &amp; Key Exchange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25" name=""/>
          <p:cNvSpPr/>
          <p:nvPr/>
        </p:nvSpPr>
        <p:spPr>
          <a:xfrm>
            <a:off x="2424240" y="1752480"/>
            <a:ext cx="0" cy="487692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6218280" y="1752480"/>
            <a:ext cx="15840" cy="487692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>
            <a:off x="1954080" y="12193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8" name=""/>
          <p:cNvSpPr/>
          <p:nvPr/>
        </p:nvSpPr>
        <p:spPr>
          <a:xfrm>
            <a:off x="5712480" y="1219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1036800" y="25560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>
            <a:off x="1433520" y="3048120"/>
            <a:ext cx="0" cy="11430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2424240" y="4343400"/>
            <a:ext cx="3809880" cy="198108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 flipH="1" rot="1657800">
            <a:off x="2801880" y="48006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Certificate Verif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2424240" y="3200400"/>
            <a:ext cx="3809880" cy="198108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 flipH="1" rot="1657800">
            <a:off x="2902680" y="365760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 Key Exchan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2424240" y="2057400"/>
            <a:ext cx="3809880" cy="198108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 flipH="1" rot="1657800">
            <a:off x="3731040" y="25909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Certifica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6400800" y="3886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Option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6400800" y="58672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Option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Client Auth &amp; Key Exchange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2424240" y="1295280"/>
            <a:ext cx="0" cy="556272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6216120" y="1295280"/>
            <a:ext cx="17640" cy="556272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1371600" y="13716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6401520" y="13716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1036800" y="20988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1433520" y="2590920"/>
            <a:ext cx="0" cy="11430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2438280" y="3505320"/>
            <a:ext cx="3733920" cy="190476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 rot="19942200">
            <a:off x="2986560" y="3885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Cipher Spe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8" name=""/>
          <p:cNvSpPr/>
          <p:nvPr/>
        </p:nvSpPr>
        <p:spPr>
          <a:xfrm>
            <a:off x="2424240" y="1981080"/>
            <a:ext cx="3809880" cy="19814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 flipH="1" rot="1657800">
            <a:off x="3827160" y="2437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424240" y="1295280"/>
            <a:ext cx="3809880" cy="19814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 flipH="1" rot="1657800">
            <a:off x="3178440" y="18280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Cipher Spe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423880" y="4114800"/>
            <a:ext cx="3747960" cy="198108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 rot="19942200">
            <a:off x="3839760" y="45716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IPsec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d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unn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toco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uthenticated Header (AH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capsulated Security Payload (ESP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2760" y="1295280"/>
            <a:ext cx="401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figura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d-to-e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atenat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st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incipal eleme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urity Associations (SAD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ternet Key Exchange (IK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licy (SPD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Typical Case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304920" y="2362320"/>
            <a:ext cx="1600200" cy="60948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7010280" y="5791320"/>
            <a:ext cx="1600200" cy="60948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"/>
          <p:cNvSpPr/>
          <p:nvPr/>
        </p:nvSpPr>
        <p:spPr>
          <a:xfrm>
            <a:off x="762120" y="1676520"/>
            <a:ext cx="1371600" cy="22860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304920" y="1676520"/>
            <a:ext cx="457200" cy="22860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3505320" y="3352680"/>
            <a:ext cx="1371600" cy="22860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3048120" y="3352680"/>
            <a:ext cx="457200" cy="22860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2590920" y="3352680"/>
            <a:ext cx="457200" cy="228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SP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"/>
          <p:cNvSpPr/>
          <p:nvPr/>
        </p:nvSpPr>
        <p:spPr>
          <a:xfrm>
            <a:off x="4876920" y="3352680"/>
            <a:ext cx="457200" cy="228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SP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2133720" y="3352680"/>
            <a:ext cx="457200" cy="22860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>
            <a:off x="3048120" y="3200400"/>
            <a:ext cx="18288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6400800" y="5105520"/>
            <a:ext cx="1371600" cy="22860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5943600" y="5105520"/>
            <a:ext cx="457200" cy="22860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4343400" y="4038480"/>
            <a:ext cx="4648320" cy="25909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4191120" y="3886200"/>
            <a:ext cx="1600200" cy="60948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atewa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2175480" y="251460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6321240" y="4238640"/>
            <a:ext cx="24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rporate Networ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Chaining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324480" y="4876920"/>
            <a:ext cx="2667240" cy="1828800"/>
            <a:chOff x="6324480" y="4876920"/>
            <a:chExt cx="2667240" cy="182880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667240" cy="6094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nnsylvania CA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24480" y="5486400"/>
              <a:ext cx="2667240" cy="6094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ennsylvania CA Key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24480" y="6095880"/>
              <a:ext cx="2667240" cy="60984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SA CA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429000" y="3962520"/>
            <a:ext cx="2666880" cy="1828800"/>
            <a:chOff x="3429000" y="3962520"/>
            <a:chExt cx="2666880" cy="1828800"/>
          </a:xfrm>
        </p:grpSpPr>
        <p:sp>
          <p:nvSpPr>
            <p:cNvPr id="103" name=""/>
            <p:cNvSpPr/>
            <p:nvPr/>
          </p:nvSpPr>
          <p:spPr>
            <a:xfrm>
              <a:off x="3429000" y="3962520"/>
              <a:ext cx="2666880" cy="6094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hilly CA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29000" y="4572000"/>
              <a:ext cx="2666880" cy="6094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hilly CA Key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29000" y="5181480"/>
              <a:ext cx="2666880" cy="60984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nnsylvania CA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57200" y="1905120"/>
            <a:ext cx="4949640" cy="1831320"/>
            <a:chOff x="457200" y="1905120"/>
            <a:chExt cx="4949640" cy="1831320"/>
          </a:xfrm>
        </p:grpSpPr>
        <p:sp>
          <p:nvSpPr>
            <p:cNvPr id="107" name=""/>
            <p:cNvSpPr/>
            <p:nvPr/>
          </p:nvSpPr>
          <p:spPr>
            <a:xfrm>
              <a:off x="457200" y="1905120"/>
              <a:ext cx="2666880" cy="6094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oe Smith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" y="2514600"/>
              <a:ext cx="2666880" cy="6094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oe’s Key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" y="3124080"/>
              <a:ext cx="2666880" cy="60984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hilly CA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05320" y="19051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ubjec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5680" y="259092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ubject’s Key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6040" y="3276720"/>
              <a:ext cx="91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ssuer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Encapsulated Security Header and Trailer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1523880" y="2133720"/>
            <a:ext cx="5181840" cy="3808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urity Parameter Index (SPI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1523880" y="2514600"/>
            <a:ext cx="5181840" cy="3808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quence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2895480"/>
            <a:ext cx="5181840" cy="3812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itialization Vecto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1523880" y="3276720"/>
            <a:ext cx="5181840" cy="2438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tected Dat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2819520" y="5334120"/>
            <a:ext cx="388620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1523880" y="5715000"/>
            <a:ext cx="259092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4114800" y="5715000"/>
            <a:ext cx="1295280" cy="3808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ad Length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5410080" y="5715000"/>
            <a:ext cx="1295640" cy="3808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ext Header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1523880" y="6095880"/>
            <a:ext cx="5181840" cy="3812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uthentication Dat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1752480"/>
            <a:ext cx="1295280" cy="22860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6-23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5410080" y="1752480"/>
            <a:ext cx="1295640" cy="22860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3-31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6" name=""/>
          <p:cNvSpPr/>
          <p:nvPr/>
        </p:nvSpPr>
        <p:spPr>
          <a:xfrm>
            <a:off x="1523880" y="1752480"/>
            <a:ext cx="1295640" cy="22860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-7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7" name=""/>
          <p:cNvSpPr/>
          <p:nvPr/>
        </p:nvSpPr>
        <p:spPr>
          <a:xfrm>
            <a:off x="2819520" y="1752480"/>
            <a:ext cx="1295280" cy="22860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8-15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Security Associ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 SA describes the parameters for processing a secured packet from one node to anoth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s are simplex:  use one for each direc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more than one SA is used for a packet the applicable SAs are called an “SA bundle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SA Parameters (ESP Only)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quence number, Sequence number overflow, Anti-replay window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fetim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nnel destin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MTU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ncryption algorithm (IV, etc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uthentication algorith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Policy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licy is not standardized in IPSec but certain basic functionality is expect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Security Policy Database (SPD) is consulted to determine what kind of security to apply to each packe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SPD is consulted during the processing of all traffic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bound and outbou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PSec and non-IPSec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SPD Action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scar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pass IPse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pply IPsec: SPD must specify the security services to be provide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inbound traffic it is inferred from: destination address, protocol, SPI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outbound traffic this is done with a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selecto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Selector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ectors are predicates on packets that are used to map groups of packets to SAs or impose polic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are similar to firewall filte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ector suppor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stination and source IP address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me (DNS, X.509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urce and destination ports (may not be available on inbound ESP packets; use inner header for inbound tunnel mode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IPsec Processing: Outbound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 selectors in SPD to determine drop, bypass, or appl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pply, determine whether an SA or SA bundle for the packet exis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yes, then apply all appropriate SAs before dispatch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no, then create all necessary SAs.  Apply these when done before dispatch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IPsec Processing: Inbound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there are no IPsec headers check SPD selectors to determine processing discard, bypass, or appl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apply, then dro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there are IPsec headers,  apply SA determined by SPI, destination, protoco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selectors on result to retrieve policy and confirm correct applic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Internet Key Exchange (IKE)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010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tivating problem: Security settings (SAs) must be highly configurab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lution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 network administrator manually configure SA (most commo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ide mechanism to allow automatic negotiation and configu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be found at: http://ietf.org/internet-drafts/draft-ietf-ipsec-ikev2-13.tx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KEv2 Current as of March 22, 2004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Station to Station Protocol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-&gt; B : YA (Diffie-Hellman public key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culate k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 –&gt; A : YB, E(k, SB(YB, YA)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culate k, use it to decrypt the signature, check the signature using the verification function of B and known values YB, Y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-&gt; B : E(k, SA(YA, YB)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crypt the signature and check it using the verification function of 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Certificate Management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tribution: How to find a certifica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ertificate accompanying signature or as part of a protoc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irectory servic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A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DA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N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mail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ut and paste from web pag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2760" y="1295280"/>
            <a:ext cx="401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vocation: Terminate certificates before their expiration tim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ow does the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relying party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know that the certificate has been revoke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ny CRL distribution strategies propos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itre report for NIST suggests certificate revocation will be the largest maintenance cost for PKI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High-level view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quester:                                        Responder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KE_SA_INIT --&gt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&lt;-- IKE_SA_INI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KE_AUTH    --&gt;     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&lt;-- IKE_AUT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se are mandatory message exchange pairs, and must be executed in this orde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High-level view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tor:                                            Responder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REATE_CHILD_SA --&gt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&lt;-- CREATE_CHILD_S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FORMATIONAL  --&gt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&lt;-- INFORMATIONA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se messages are optional and can be sent by either party at any time.   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Changes from IKEv1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 initialization messages instead of 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crease latency in common case of 1 CHILD_SA by piggybacking this onto initial message exchan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tocol is reliable (all messages are acknowledged and sequenced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okie exchange option ensures that the responder does not have to commit state until initiator proves it can accept mess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Summary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KI provides potential scalable identities for the Internet but adoption has been difficul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twork protocols are designed in layers; security can be provided at multiple layers with various tradeoff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oretical protocols differ in significant ways from Internet standards and softwa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Semantics of CRL’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ree certificat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 says P is the public key of Ali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 says P is the public key of Ali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 says R is the public key of Bob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ree kinds of revocatio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 is not the public key of Alice.  (3 not 2.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 no longer vouches for whether P is the public key of Alice. (2 and 3.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key of Q has been compromised. (2 not 3.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0440" y="641520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998 Fox and LaMacch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-22320" y="182880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Revok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Adoption of PKI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ble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vo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r ability to deal with key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gistration (challenge for all authentication technique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ak business mod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2760" y="1295280"/>
            <a:ext cx="401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as of Progre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S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uthentico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S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mart cards for government employe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b servic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30492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Challenges for Network Security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har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lexit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ca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nknown perime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onymit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nknown path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gunter</cp:lastModifiedBy>
  <dcterms:modified xsi:type="dcterms:W3CDTF">2004-06-17T16:46:23Z</dcterms:modified>
  <cp:revision>140</cp:revision>
  <dc:subject/>
  <dc:title>CIS/TCOM 551 Computer and Network Security Part 1</dc:title>
</cp:coreProperties>
</file>